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6C9C-DC8F-4CF3-BCCA-9F8E7BAF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3719-1E37-4B0C-BF87-5D961E6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0B7A-7E3E-443F-8F67-CFE94969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D799-796F-4F94-8CBC-C136470D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4A7A-54F6-4917-8507-0C94C2CA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267-EF69-4D39-AE99-ED733D0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2E7-ED21-4FE6-A035-B227BF1E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353F-2A84-4005-B60A-5501CC5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4E1-9ED5-4609-9A2D-FBFEC76D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5846-34C3-4BE6-81C9-57DAA3D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7695-D705-4502-91F1-777A8CF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043E-436E-421D-8E78-A121419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8C84-62A3-4BB6-8ACB-1F4D646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220D-FED8-4658-BFEA-00A559A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95B8-E878-4E18-964D-E4363B9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3C99-2414-44D7-ADFD-7309FF30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C811-A857-4E0C-BE80-0DECBA80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A66F-16DA-43B3-9962-BC55692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3D23-C80A-41F7-B418-08236FB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56BE-F663-41B1-97DE-349E6C9D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7A8A-B490-4754-8AEA-0C26583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CCBC-7D4A-41D3-B8F7-F093CE6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E8CA-4EAE-4365-BCD0-08F722E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5E7C-30FF-448C-955F-EC868BE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C5A-3264-4883-B40F-8006A04FD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478-BE27-458F-A179-7A9690EFF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LOTE : French and Itali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544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pizz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13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mascar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576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casino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23888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FRENCH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graffiti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5721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397160" y="82224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oper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451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mafi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66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influenza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471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lotto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6386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rench or English origin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666880" y="1752120"/>
            <a:ext cx="5105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ven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ow, you are very good at Italian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rench or English origin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2666880" y="1752120"/>
            <a:ext cx="5105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a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uven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ow, you are very good at French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fdef6"/>
                </a:solidFill>
                <a:latin typeface="Arial"/>
              </a:rPr>
              <a:t>ITALIAN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ef6"/>
                </a:solidFill>
                <a:latin typeface="Arial"/>
              </a:rPr>
              <a:t>confetti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46:01Z</dcterms:created>
  <dc:creator>bolleke</dc:creator>
  <dc:description/>
  <dc:language>en-US</dc:language>
  <cp:lastModifiedBy>IT&amp;S</cp:lastModifiedBy>
  <dcterms:modified xsi:type="dcterms:W3CDTF">2008-03-11T01:04:49Z</dcterms:modified>
  <cp:revision>8</cp:revision>
  <dc:subject/>
  <dc:title>French or English origin?</dc:title>
</cp:coreProperties>
</file>